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EDF-8FDD-43FA-A1D9-FCE090D9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F5F-AA18-4FBE-AEC1-61CD4D4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4A7-BDF3-4901-839F-39DFF1D2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0D1-8508-47CC-BBDA-41662DB4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4B5-2CE6-4FDB-AA75-7B0C909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211-0C54-4086-821E-1CD1A11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3BD-ABEE-4E79-8C47-47C1D4A7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530-2B8C-4EE9-9E93-711E189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5C2-409B-42D1-86D3-E8D7A9AE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0FC-EEFC-4F43-A53E-1D350D9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F69-C578-42D7-A96D-642E5DB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F1D-12F5-4D40-B725-FAA9386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F45-D78C-4541-AF71-FCD35495D6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Britannic Bold"/>
              </a:rPr>
              <a:t>Grammar Flash Car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Parts of a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762120" y="6094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What is a noun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5">
            <a:hlinkClick r:id="rId1" action="ppaction://hlinksldjump"/>
          </p:cNvPr>
          <p:cNvSpPr/>
          <p:nvPr/>
        </p:nvSpPr>
        <p:spPr>
          <a:xfrm>
            <a:off x="6019920" y="5257800"/>
            <a:ext cx="2819160" cy="1295280"/>
          </a:xfrm>
          <a:custGeom>
            <a:avLst/>
            <a:gdLst>
              <a:gd name="textAreaLeft" fmla="*/ 83880 w 2819160"/>
              <a:gd name="textAreaRight" fmla="*/ 2735280 w 28191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47005" h="21600">
                <a:moveTo>
                  <a:pt x="0" y="0"/>
                </a:moveTo>
                <a:lnTo>
                  <a:pt x="47005" y="0"/>
                </a:lnTo>
                <a:lnTo>
                  <a:pt x="47005" y="21600"/>
                </a:lnTo>
                <a:lnTo>
                  <a:pt x="0" y="21600"/>
                </a:lnTo>
                <a:close/>
              </a:path>
              <a:path fill="lightenLess" w="47005" h="21600">
                <a:moveTo>
                  <a:pt x="0" y="0"/>
                </a:moveTo>
                <a:lnTo>
                  <a:pt x="47005" y="0"/>
                </a:lnTo>
                <a:lnTo>
                  <a:pt x="45605" y="1400"/>
                </a:lnTo>
                <a:lnTo>
                  <a:pt x="1400" y="1400"/>
                </a:lnTo>
                <a:close/>
              </a:path>
              <a:path fill="darken" w="47005" h="21600">
                <a:moveTo>
                  <a:pt x="47005" y="0"/>
                </a:moveTo>
                <a:lnTo>
                  <a:pt x="47005" y="21600"/>
                </a:lnTo>
                <a:lnTo>
                  <a:pt x="45605" y="20200"/>
                </a:lnTo>
                <a:lnTo>
                  <a:pt x="45605" y="1400"/>
                </a:lnTo>
                <a:close/>
              </a:path>
              <a:path fill="darkenLess" w="47005" h="21600">
                <a:moveTo>
                  <a:pt x="47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05" y="20200"/>
                </a:lnTo>
                <a:close/>
              </a:path>
              <a:path fill="lighten" w="47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05" h="21600">
                <a:moveTo>
                  <a:pt x="16496" y="3794"/>
                </a:moveTo>
                <a:lnTo>
                  <a:pt x="30509" y="10800"/>
                </a:lnTo>
                <a:lnTo>
                  <a:pt x="1649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257800" y="4114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Click here for  answe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5800" y="6094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A noun is a person, place, or th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5" descr="j0301252"/>
          <p:cNvPicPr/>
          <p:nvPr/>
        </p:nvPicPr>
        <p:blipFill>
          <a:blip r:embed="rId1"/>
          <a:stretch/>
        </p:blipFill>
        <p:spPr>
          <a:xfrm>
            <a:off x="228600" y="2819520"/>
            <a:ext cx="24382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j0185604"/>
          <p:cNvPicPr/>
          <p:nvPr/>
        </p:nvPicPr>
        <p:blipFill>
          <a:blip r:embed="rId2"/>
          <a:stretch/>
        </p:blipFill>
        <p:spPr>
          <a:xfrm>
            <a:off x="3276720" y="2743200"/>
            <a:ext cx="251460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MCj02327600000[1]"/>
          <p:cNvPicPr/>
          <p:nvPr/>
        </p:nvPicPr>
        <p:blipFill>
          <a:blip r:embed="rId3"/>
          <a:stretch/>
        </p:blipFill>
        <p:spPr>
          <a:xfrm>
            <a:off x="6324480" y="2743200"/>
            <a:ext cx="2514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5800" y="8380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What is a Verb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AutoShape 5">
            <a:hlinkClick r:id="rId1" action="ppaction://hlinksldjump"/>
          </p:cNvPr>
          <p:cNvSpPr/>
          <p:nvPr/>
        </p:nvSpPr>
        <p:spPr>
          <a:xfrm>
            <a:off x="4572000" y="4724280"/>
            <a:ext cx="3809880" cy="1752840"/>
          </a:xfrm>
          <a:custGeom>
            <a:avLst/>
            <a:gdLst>
              <a:gd name="textAreaLeft" fmla="*/ 113400 w 3809880"/>
              <a:gd name="textAreaRight" fmla="*/ 3696480 w 380988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46943" h="21600">
                <a:moveTo>
                  <a:pt x="0" y="0"/>
                </a:moveTo>
                <a:lnTo>
                  <a:pt x="46943" y="0"/>
                </a:lnTo>
                <a:lnTo>
                  <a:pt x="46943" y="21600"/>
                </a:lnTo>
                <a:lnTo>
                  <a:pt x="0" y="21600"/>
                </a:lnTo>
                <a:close/>
              </a:path>
              <a:path fill="lightenLess" w="46943" h="21600">
                <a:moveTo>
                  <a:pt x="0" y="0"/>
                </a:moveTo>
                <a:lnTo>
                  <a:pt x="46943" y="0"/>
                </a:lnTo>
                <a:lnTo>
                  <a:pt x="45543" y="1400"/>
                </a:lnTo>
                <a:lnTo>
                  <a:pt x="1400" y="1400"/>
                </a:lnTo>
                <a:close/>
              </a:path>
              <a:path fill="darken" w="46943" h="21600">
                <a:moveTo>
                  <a:pt x="46943" y="0"/>
                </a:moveTo>
                <a:lnTo>
                  <a:pt x="46943" y="21600"/>
                </a:lnTo>
                <a:lnTo>
                  <a:pt x="45543" y="20200"/>
                </a:lnTo>
                <a:lnTo>
                  <a:pt x="45543" y="1400"/>
                </a:lnTo>
                <a:close/>
              </a:path>
              <a:path fill="darkenLess" w="46943" h="21600">
                <a:moveTo>
                  <a:pt x="46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" y="20200"/>
                </a:lnTo>
                <a:close/>
              </a:path>
              <a:path fill="lighten" w="46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943" h="21600">
                <a:moveTo>
                  <a:pt x="16465" y="3794"/>
                </a:moveTo>
                <a:lnTo>
                  <a:pt x="30478" y="10800"/>
                </a:lnTo>
                <a:lnTo>
                  <a:pt x="16465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267080" y="327672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Click here for answe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62120" y="7621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itannic Bold"/>
              </a:rPr>
              <a:t>A verb is a word that shows action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6" descr="MCj04379380000[1]"/>
          <p:cNvPicPr/>
          <p:nvPr/>
        </p:nvPicPr>
        <p:blipFill>
          <a:blip r:embed="rId1"/>
          <a:stretch/>
        </p:blipFill>
        <p:spPr>
          <a:xfrm>
            <a:off x="228600" y="2895480"/>
            <a:ext cx="2590920" cy="3124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22860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W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8" descr="MCj01572130000[1]"/>
          <p:cNvPicPr/>
          <p:nvPr/>
        </p:nvPicPr>
        <p:blipFill>
          <a:blip r:embed="rId2"/>
          <a:stretch/>
        </p:blipFill>
        <p:spPr>
          <a:xfrm>
            <a:off x="3124080" y="2819520"/>
            <a:ext cx="259092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2767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11" descr="MCj04345810000[1]"/>
          <p:cNvPicPr/>
          <p:nvPr/>
        </p:nvPicPr>
        <p:blipFill>
          <a:blip r:embed="rId3"/>
          <a:stretch/>
        </p:blipFill>
        <p:spPr>
          <a:xfrm>
            <a:off x="6019920" y="297180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662940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Ju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2:19:46Z</dcterms:created>
  <dc:creator>Zack Blackwell</dc:creator>
  <dc:description/>
  <dc:language>en-US</dc:language>
  <cp:lastModifiedBy>patron</cp:lastModifiedBy>
  <dcterms:modified xsi:type="dcterms:W3CDTF">2009-02-25T16:03:11Z</dcterms:modified>
  <cp:revision>6</cp:revision>
  <dc:subject/>
  <dc:title>Grammar Flash Cards</dc:title>
</cp:coreProperties>
</file>